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78425"/>
        <c:axId val="36999224"/>
      </c:barChart>
      <c:catAx>
        <c:axId val="55278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99224"/>
        <c:crosses val="autoZero"/>
        <c:auto val="1"/>
        <c:lblAlgn val="ctr"/>
        <c:lblOffset val="100"/>
        <c:noMultiLvlLbl val="0"/>
      </c:catAx>
      <c:valAx>
        <c:axId val="36999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78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01B-31BA-41DB-B50C-8ACAFA9F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2FC-9DE6-4F31-A374-4B18399D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5FD-528B-4967-9312-FCA96949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E3A6-B79A-49E7-A3B6-7CEE2BBE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9CE-7701-4FA3-9C98-253345CE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308-4D23-4BD5-A176-33731911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28FF-9F16-4858-A280-42D3C3DC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FB8-6D70-4BF5-B84B-12A0A966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E95-DFFB-41BA-B64D-CAD28C8E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26C5-EB67-4CAC-B64A-BE565A03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C04-E195-41CD-9339-55A2FCC2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294-4F12-4393-9598-FD4EC38B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593C3-D297-48E1-B175-3D04E3DDF4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