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6406"/>
        <c:axId val="14546809"/>
      </c:barChart>
      <c:catAx>
        <c:axId val="6186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46809"/>
        <c:crosses val="autoZero"/>
        <c:auto val="1"/>
        <c:lblAlgn val="ctr"/>
        <c:lblOffset val="100"/>
        <c:noMultiLvlLbl val="0"/>
      </c:catAx>
      <c:valAx>
        <c:axId val="14546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28E-DB1D-4AFF-B9B3-557B40BD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D0D-0B5E-4A41-A340-44B9CDC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3B1-FC8D-4BC2-9525-88F27302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5F4-81C8-4A99-A0FE-0A1D7240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BB3-98F3-4058-BE2A-BEC7264A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DA8-6F42-45DE-909F-5B414967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39C-A630-41E4-8D83-B9F846B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84F-6B0D-41A2-8713-12B501BD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6DF-4882-4616-9655-0531C4B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E7E-0372-449C-907B-05EFCE94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74D-EB81-4D32-94B2-BA84ABE8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ADF-2082-423B-ABBB-68360A2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DDC65-3E06-40D7-B385-60AE178260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