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03519"/>
        <c:axId val="39634766"/>
      </c:barChart>
      <c:catAx>
        <c:axId val="33303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4766"/>
        <c:crosses val="autoZero"/>
        <c:auto val="1"/>
        <c:lblAlgn val="ctr"/>
        <c:lblOffset val="100"/>
        <c:noMultiLvlLbl val="0"/>
      </c:catAx>
      <c:valAx>
        <c:axId val="39634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03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7CA-5A3B-42C4-9F8B-211903B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D92-D485-4104-9863-4963594F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0D3-D897-41D4-82D5-04594164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A3A-C5CC-4691-A2F7-23A1553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BA2-8F75-4B36-A6AF-A83C51F9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72D-57DD-4792-B9EE-A1BE980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9B5-CE00-4C24-BEC8-CDD21D03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D77-C43E-4F02-A2E8-8436AFE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91F-34A7-411F-B280-119F380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A49-A1B1-4B50-A648-33D4FCE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D7F-BC85-40E1-8717-0C385E4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690-643E-4D03-9A5E-DB2E650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2D789-8EF7-49B4-82ED-5DDA99CA7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