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33633"/>
        <c:axId val="47203449"/>
      </c:barChart>
      <c:catAx>
        <c:axId val="52633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03449"/>
        <c:crosses val="autoZero"/>
        <c:auto val="1"/>
        <c:lblAlgn val="ctr"/>
        <c:lblOffset val="100"/>
        <c:noMultiLvlLbl val="0"/>
      </c:catAx>
      <c:valAx>
        <c:axId val="47203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33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538-AE0D-4D58-9F2F-6EA4C43B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27D-E3E0-487D-B4FF-E6C1DB1E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0EF-9704-4112-BDBF-1774837C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BF1-5FDB-4B3E-B8B4-9F2A010E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7B7-247A-452A-B14F-04649BD8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C3F-1550-4AF4-B087-4C25040E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11D-8208-406A-AFC7-87C3578C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5F2-D7DD-401E-9F8B-2F957A51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778-B29B-41EE-BB92-2D6365F7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D44-6961-489F-AC75-73393EAD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729-E728-464D-890B-0DC45481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E8E-9DF2-433B-8FEA-EEE8B76A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C23E2-B2C3-4571-B228-8BE368448E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