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45298"/>
        <c:axId val="71704668"/>
      </c:barChart>
      <c:catAx>
        <c:axId val="71845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04668"/>
        <c:crosses val="autoZero"/>
        <c:auto val="1"/>
        <c:lblAlgn val="ctr"/>
        <c:lblOffset val="100"/>
        <c:noMultiLvlLbl val="0"/>
      </c:catAx>
      <c:valAx>
        <c:axId val="71704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45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096-A221-44AA-88DF-3FD94067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C51-F6EE-4D1F-B30E-C9A02078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77D-D5C5-4402-843C-ECB703E6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54B-6EE2-419C-9356-9AF905A5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75A-FF07-4D5F-AE7C-44FE01C9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305-7522-41B6-B91F-DBD66AB0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FED-87D8-4310-98AA-DEC43A5B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6E6-830B-460C-B6FA-FA343B12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509-D2CB-4F38-AB43-74CEC47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FB5-6CD4-4AE1-8D6E-015C51E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48F-2524-4628-AB36-525E2C2C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55A-03FB-4CFE-9CC8-7A0E6802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C7910-F63E-4AD3-ABD7-A4AB75C765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