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63580"/>
        <c:axId val="56805478"/>
      </c:barChart>
      <c:catAx>
        <c:axId val="87263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05478"/>
        <c:crosses val="autoZero"/>
        <c:auto val="1"/>
        <c:lblAlgn val="ctr"/>
        <c:lblOffset val="100"/>
        <c:noMultiLvlLbl val="0"/>
      </c:catAx>
      <c:valAx>
        <c:axId val="56805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63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E2E-B959-4D34-8103-344DD4CD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2F0-666F-422B-AA0D-730C95DB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C1E-9D35-4732-B594-11F15CCE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026-9E86-458F-8762-7A20CCD4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E43-A31F-4D08-9400-CE88FE4A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E28-AA7A-4413-9F7D-898716B0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E94-631B-4E51-AA31-8E3B35BB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900-3885-41B3-8CBB-AC4C21CD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2EB-2A39-4C42-A68D-F503A4DE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E23-5C6F-442B-A8D9-0CD1D20C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261-2067-4193-A7C0-F4B5A112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16A-3EAD-4EFF-8C86-D95D1EBF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A23B5-01F5-483B-A97E-08762601FB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