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00439"/>
        <c:axId val="44592499"/>
      </c:barChart>
      <c:catAx>
        <c:axId val="31600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92499"/>
        <c:crosses val="autoZero"/>
        <c:auto val="1"/>
        <c:lblAlgn val="ctr"/>
        <c:lblOffset val="100"/>
        <c:noMultiLvlLbl val="0"/>
      </c:catAx>
      <c:valAx>
        <c:axId val="44592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00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0EF-67A1-45FE-A7A5-6177A981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5A2-3C20-40F5-9F99-9E6F7C58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C95-52D6-4272-9F01-D2D90CCA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724-4358-42CF-AB1D-FAB68362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22C-163D-4065-AF6F-03A061BA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347-AD05-42B5-B423-C687DDE2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D19-A10B-4FE7-931C-C4903D18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8EB-3571-496A-96D4-D243F209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63A-60FF-4B56-B5AD-8D83B9BB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FBC-DF5D-46DF-A0EE-0B490760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D15-FB01-4F84-8B84-B7BBC5B9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16C-0C1F-472F-844E-F230FC37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13B71-6D5D-4161-A50F-FD16EF16D2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