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47072"/>
        <c:axId val="36186377"/>
      </c:barChart>
      <c:catAx>
        <c:axId val="72647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6377"/>
        <c:crosses val="autoZero"/>
        <c:auto val="1"/>
        <c:lblAlgn val="ctr"/>
        <c:lblOffset val="100"/>
        <c:noMultiLvlLbl val="0"/>
      </c:catAx>
      <c:valAx>
        <c:axId val="36186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7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155-513B-44AC-B85F-50C53B04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DF9-AB15-40A2-B669-7B2AD36D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F57-5000-4922-ADB1-21D39BDB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DBA-504C-4159-9C63-4AC4B580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4D-5D4F-4915-8518-72B08F0F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F66-52FA-4218-B239-F1E36C33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585-8D32-4421-966C-74C048E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2BB-2855-4568-87F2-655F4F39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6BF-2343-4064-8635-266B1076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E58-C27C-4E80-8068-FC5CE8E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73F-6259-41F3-A308-E0E02EA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001-539A-4C8B-9A27-099E4DB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0CDB-42DD-4EBA-A96C-64B49C74C0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