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06770"/>
        <c:axId val="24998782"/>
      </c:barChart>
      <c:catAx>
        <c:axId val="25106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98782"/>
        <c:crosses val="autoZero"/>
        <c:auto val="1"/>
        <c:lblAlgn val="ctr"/>
        <c:lblOffset val="100"/>
        <c:noMultiLvlLbl val="0"/>
      </c:catAx>
      <c:valAx>
        <c:axId val="24998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06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14C-1DF1-4544-844C-4ED1A911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07D-04BB-4891-BEEF-21E88CE6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00D1-0E7A-499B-9632-D174DDBC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70E-12DD-4EE2-8301-186D56C4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489-D70A-4FCB-820E-16622EA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40C-6396-4355-A1E2-C3C0F5A2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A08-7089-4285-A3C5-40054A36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E4B-CBC4-4EC6-985D-127A2756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D94-C5B0-48D5-B32D-F0628059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2A9-F44F-4BFA-99D6-99C00072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191-F87D-4C51-BBA1-018685D3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424-0E9C-4CD2-A129-D808D880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77EF2-C833-4017-B385-F4E6DFAD68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