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03969"/>
        <c:axId val="20794989"/>
      </c:barChart>
      <c:catAx>
        <c:axId val="29103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94989"/>
        <c:crosses val="autoZero"/>
        <c:auto val="1"/>
        <c:lblAlgn val="ctr"/>
        <c:lblOffset val="100"/>
        <c:noMultiLvlLbl val="0"/>
      </c:catAx>
      <c:valAx>
        <c:axId val="20794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03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B2A-E03A-4693-B972-44D50C44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D574-BD05-444A-BCA2-C8F5275D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923-7558-44D3-B285-22C0BA98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4BE-A7BD-4973-A116-F8A5C5E9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8C1-CC9C-41A6-A0DD-D88B3A2E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001-2E9D-491B-81B7-8B22C7B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EF5-970B-47B4-A9F0-A2291679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CA5-2597-4570-8AF7-9513BABD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EBF-E380-4C20-9367-8DD69EE8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159-E20A-4FD6-B145-1A1005E6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8A-ADED-422E-94E3-6D4FF982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4EB-BF96-479B-894C-F49513D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E0948-4DFF-4217-9E18-AD7EF6526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