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78960"/>
        <c:axId val="62405588"/>
      </c:barChart>
      <c:catAx>
        <c:axId val="15378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05588"/>
        <c:crosses val="autoZero"/>
        <c:auto val="1"/>
        <c:lblAlgn val="ctr"/>
        <c:lblOffset val="100"/>
        <c:noMultiLvlLbl val="0"/>
      </c:catAx>
      <c:valAx>
        <c:axId val="62405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78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146-3831-4953-BCCB-66219290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32D-AC76-4BD7-872B-3D7660BF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FEF-5FC3-4C35-9F76-3D647FA9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32A-9F64-466B-B7A1-DD4416D9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040-FE91-4924-884D-00E62788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1F1-3CCD-4709-B201-DDA498C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D6C-C291-4C8E-BB29-6BBA538C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9A7-BD63-4A19-83F1-59976E8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293-52CA-4B77-A753-511880C7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22B-723A-4A0B-AE26-46CED6C1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7D9-F202-4B17-8914-1B8DECFA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61C-29EA-4F7A-B65C-BC3C9CE5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E45C9-2902-4F4A-A6B6-D822FC8913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