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860547"/>
        <c:axId val="58901014"/>
      </c:barChart>
      <c:catAx>
        <c:axId val="758605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01014"/>
        <c:crosses val="autoZero"/>
        <c:auto val="1"/>
        <c:lblAlgn val="ctr"/>
        <c:lblOffset val="100"/>
        <c:noMultiLvlLbl val="0"/>
      </c:catAx>
      <c:valAx>
        <c:axId val="589010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8605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0648-F07C-4360-A0A7-C457CD21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1E8A-86BF-4EEF-B076-38875051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1875-0E2A-42C8-9463-0C442C70B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1E81-6F11-4F67-8CC1-37D50CBDF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4240-09D9-4AB3-8012-ECADA5D3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BABF-07F0-4464-9D81-9E3CD805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B2BA-28FA-4DA2-9AFB-E0849128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3B65-0509-401B-89ED-1679143B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FC40-5B83-497B-AD8F-AB36742A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19F5-C981-4F50-AF9B-0380C999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D16B-4CC5-4F42-88F1-DE7E3131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C73F-7A51-440C-AC0A-979AD914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3844C-069A-42D9-B00E-627D22EFF4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