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943400"/>
        <c:axId val="67220136"/>
      </c:barChart>
      <c:catAx>
        <c:axId val="959434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20136"/>
        <c:crosses val="autoZero"/>
        <c:auto val="1"/>
        <c:lblAlgn val="ctr"/>
        <c:lblOffset val="100"/>
        <c:noMultiLvlLbl val="0"/>
      </c:catAx>
      <c:valAx>
        <c:axId val="672201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434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2C2C-4F1E-4A02-B8CE-81F6AE8B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AE1F-9464-4817-A520-04D248F4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C4A0-DD47-4BD2-A334-CDACB485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D937-756B-407B-973A-3D4FB496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B41C-AE52-4685-B3F4-843FAF1D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5B5C-7FE1-4731-9B54-44C357DB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D9EB-B87E-4742-A6B6-930364D9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CE63-9233-4BBA-9C90-E1DAD038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5581-E782-42A1-B07D-CA709621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D45E-0C56-4E42-9B78-F3350193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4023-762F-4405-9064-0E979403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F699-A16A-4058-B685-50251654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45EC1-BDEE-414C-9113-48DB868943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