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77531"/>
        <c:axId val="44200660"/>
      </c:barChart>
      <c:catAx>
        <c:axId val="66777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00660"/>
        <c:crosses val="autoZero"/>
        <c:auto val="1"/>
        <c:lblAlgn val="ctr"/>
        <c:lblOffset val="100"/>
        <c:noMultiLvlLbl val="0"/>
      </c:catAx>
      <c:valAx>
        <c:axId val="44200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77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39E-928F-4618-84E4-EEA1BCE5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ECA-0C54-4123-9D8B-1709A3B0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77E-BC8B-41FC-A186-F514171B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079-A579-477F-B3A5-EA70F9BB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CC1F-4FA9-4607-B97A-300A8131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FC36-0CF1-4FF7-8252-058BC2E6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1A3B-5F8D-4549-B56D-4806A901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B14-D917-40CD-AF72-41A6937F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A17-73A8-42AF-8F1C-52A3DDC1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830-B754-4063-9ABC-2E04BD4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81F-253E-4530-8298-17D5AAE0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C70-72DE-455B-AAD5-FE51142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26FCC-AC72-4068-88C7-F3C4AAC585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