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06802"/>
        <c:axId val="98098675"/>
      </c:barChart>
      <c:catAx>
        <c:axId val="93906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98675"/>
        <c:crosses val="autoZero"/>
        <c:auto val="1"/>
        <c:lblAlgn val="ctr"/>
        <c:lblOffset val="100"/>
        <c:noMultiLvlLbl val="0"/>
      </c:catAx>
      <c:valAx>
        <c:axId val="98098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06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A5A-8977-4C5B-8669-BB4EA16D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24C-1BB2-48E5-9D02-64817324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977-59EE-4A82-AFD3-96C0405C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4F1-CCC4-4CF8-9EA9-11124274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225-34C6-4F2F-AE66-9AE9ED6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794-9A3F-4FEE-9E01-3828424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C43-519C-4508-AFB7-1B84A94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745-CE94-4EEB-81D8-056D98C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A83-DAE3-4B15-9D8B-96AD17D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2C6-F65D-48F2-8D70-83378C3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F4A-CAB0-4DCB-8849-E4A12BB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269-8184-4F56-8E09-B73BE7F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42F0-C1FA-4CB8-B1C2-F1CD256E9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