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251469"/>
        <c:axId val="6242195"/>
      </c:barChart>
      <c:catAx>
        <c:axId val="582514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2195"/>
        <c:crosses val="autoZero"/>
        <c:auto val="1"/>
        <c:lblAlgn val="ctr"/>
        <c:lblOffset val="100"/>
        <c:noMultiLvlLbl val="0"/>
      </c:catAx>
      <c:valAx>
        <c:axId val="62421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514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E663-BD5E-4C8E-8760-A5C8A8FF7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E707-F8ED-4446-A5EE-09BEB457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2948-58B9-4390-BB84-BBE12BE96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8BDC-2AE6-4E46-B859-7D1CFE8FC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2804-77E5-4251-A248-2596BD8F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BD62-0CB1-485F-8A3F-F068B196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FAFB-C534-4CEE-A5E1-D5C76EF9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8CBC-BFAC-4B4E-B3CF-B2ABD701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46B8-DBF6-4B02-B923-90260DE7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C5F8-DBC0-4225-A794-82125916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8545-2DF8-4BD2-BE16-13200D42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A568-14CE-4BA1-BF25-D660C06F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65E26C-71B5-4A9F-A8D6-0013375414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