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963354"/>
        <c:axId val="38051551"/>
      </c:barChart>
      <c:catAx>
        <c:axId val="169633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051551"/>
        <c:crosses val="autoZero"/>
        <c:auto val="1"/>
        <c:lblAlgn val="ctr"/>
        <c:lblOffset val="100"/>
        <c:noMultiLvlLbl val="0"/>
      </c:catAx>
      <c:valAx>
        <c:axId val="380515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633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7E1F-88A8-4A5B-95DB-E59CC36EF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9703-298B-45A1-AB35-8D7F8650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D9A9-DFAD-4ECB-ACBE-1A8377965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97A4-774C-49F7-8251-9FE797B34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0254-CBBA-47D2-BA3F-9183021C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3FD0-9172-49A8-8B5E-A9FB8D9B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B097-79F2-4E56-9BCE-A8564CC8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298F-A827-4602-BF33-83D24BD4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C2EE-F9E8-4012-B526-9B0F42DE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5F31-3835-47B0-8A02-757CB148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E821-B2EC-4770-AC35-EF10166A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8672-9D52-4BB5-8D65-DFB09107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3D3C22-7900-4D5C-9B23-3E9880D1D4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