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9600"/>
        <c:axId val="33505704"/>
      </c:barChart>
      <c:catAx>
        <c:axId val="3739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05704"/>
        <c:crosses val="autoZero"/>
        <c:auto val="1"/>
        <c:lblAlgn val="ctr"/>
        <c:lblOffset val="100"/>
        <c:noMultiLvlLbl val="0"/>
      </c:catAx>
      <c:valAx>
        <c:axId val="33505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075-CC36-4E69-899A-7932FE02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556-A3C4-4D12-BDC7-56D29EF6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AE9-789D-4248-88EB-34F4BABB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848-6BD8-4D79-91BF-51EDA3BC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F6B-8E90-4654-84A3-BB813ECA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A48-6026-4865-852B-E3E498D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EAE-9EC1-45E3-860C-66767BE5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944-870A-40E3-AC04-81A7614D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ECF-90AB-48B9-855E-CA986DF8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D67-1FBE-40B7-9047-985DDFC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F33-7763-4D9F-BC4D-F882AA47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EF1-57C1-4353-BF7D-E5FF0B0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635D8-D2AB-4534-9284-3EE4CF9F5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