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42908"/>
        <c:axId val="42731103"/>
      </c:barChart>
      <c:catAx>
        <c:axId val="956429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31103"/>
        <c:crosses val="autoZero"/>
        <c:auto val="1"/>
        <c:lblAlgn val="ctr"/>
        <c:lblOffset val="100"/>
        <c:noMultiLvlLbl val="0"/>
      </c:catAx>
      <c:valAx>
        <c:axId val="427311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429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0F77-D41F-4154-B700-ECEAE38F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02E-278C-4476-A1F5-7890AA03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EA79-D311-48D1-8B26-14FB2156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1FF9-6859-47EE-ABAF-DFF07609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E9A-A0F7-441D-A3AA-D7898D03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68D2-7ACD-4DA5-8C1D-45AD3354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DE43-3791-4CFB-8198-B087A153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E50C-E315-4076-BE77-88914A55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46A-1D0A-4321-94BE-A424959E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1A21-DFE0-4752-8D20-520BF689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27F5-0023-4BC7-A083-80D038F0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5FA7-A1FC-4730-AA67-9AC3C9C2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DA521-4C68-4AA7-B2FE-1FE560C917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