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61903"/>
        <c:axId val="82036996"/>
      </c:barChart>
      <c:catAx>
        <c:axId val="66461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36996"/>
        <c:crosses val="autoZero"/>
        <c:auto val="1"/>
        <c:lblAlgn val="ctr"/>
        <c:lblOffset val="100"/>
        <c:noMultiLvlLbl val="0"/>
      </c:catAx>
      <c:valAx>
        <c:axId val="82036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61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E68-566F-4F07-A9C5-FB8D51EB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3AA-2533-4886-B490-81F89C4E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A23-1460-4E46-9247-4FF1D34F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29D-B718-4196-A8C1-F31213F6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5EB-477E-488D-B143-AA383C9F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8E9-BA03-4EE9-8B23-2C293322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6AC-4103-4538-9913-9A6EDCA1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F72-3DB4-4DEF-BC04-CC0F7191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117-DC4C-4142-8748-998624E3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A9F-882C-47A0-85D6-F391E117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C30-ABDC-4BB9-9A22-E64D88C1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F55-A717-476D-B686-1A6AAF4E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64C26-9B33-4D59-B935-0BF8427318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