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44471"/>
        <c:axId val="99415929"/>
      </c:barChart>
      <c:catAx>
        <c:axId val="96444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415929"/>
        <c:crosses val="autoZero"/>
        <c:auto val="1"/>
        <c:lblAlgn val="ctr"/>
        <c:lblOffset val="100"/>
        <c:noMultiLvlLbl val="0"/>
      </c:catAx>
      <c:valAx>
        <c:axId val="994159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44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52AB-B43F-4699-BB39-E06D47C80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0633-882E-42D9-B9E4-2F3458BF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34DC-9079-45A4-BA6C-6AC28D4D4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8A4D-0AFD-432E-828F-9790FBC83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9060-0761-4BD4-88B5-EFFC0080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5AFD-3548-4758-B03B-865897D8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BDF4-FE27-4FC9-9B51-C3982D7B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4FDB-CB58-45A7-BC87-07E59ED5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3972-7E17-4133-BD3C-05144619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3A6E-FBF3-4C4D-85C6-F755B1BE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4234-3FEA-4907-9890-C65CFA5B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FB94-0462-4A8E-8C93-672FAE7A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B429BB-C31F-4653-A1A5-046AFE09DF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