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71395"/>
        <c:axId val="68032280"/>
      </c:barChart>
      <c:catAx>
        <c:axId val="69871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32280"/>
        <c:crosses val="autoZero"/>
        <c:auto val="1"/>
        <c:lblAlgn val="ctr"/>
        <c:lblOffset val="100"/>
        <c:noMultiLvlLbl val="0"/>
      </c:catAx>
      <c:valAx>
        <c:axId val="68032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71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D8B-1E13-4A9F-9359-A4AED101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02B-A4B4-45E5-98C1-02AC051A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844-A431-41EE-92A0-F873AA5B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673-FCDD-40B5-80BD-A0839462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5D7-CF11-4DC2-BCE9-F767FAD0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4E6-DC73-4E23-A366-26A3D2F3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EDF-C1BB-4000-A3D8-0FF0BD6C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0DF-6D60-4BDC-848D-8777DBF5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BBA-8D7E-4D4E-8577-34D5EC06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3D2-366A-4F49-84C1-8DACF93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091-2A78-4E1A-8D7C-126EA6F5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43C-EDEA-4770-B6C2-732623EF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AE8D7-6BA1-46FC-AF93-20DA093879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