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57382"/>
        <c:axId val="2898339"/>
      </c:barChart>
      <c:catAx>
        <c:axId val="50757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8339"/>
        <c:crosses val="autoZero"/>
        <c:auto val="1"/>
        <c:lblAlgn val="ctr"/>
        <c:lblOffset val="100"/>
        <c:noMultiLvlLbl val="0"/>
      </c:catAx>
      <c:valAx>
        <c:axId val="2898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57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029-7B07-4907-8757-8ABBA6C9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375-1738-44BA-A75C-F0E5ED16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95A-C3D8-438D-B957-15B773D2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9A1-A447-4A61-92AA-E4DA34CA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66F-9A7C-4636-AA4A-6BCE6774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367-D04E-4CB0-82CD-2046B77B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A67-476C-4FA7-8272-A019C51D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3F2-CE7B-440C-A1D3-3D672EC8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5CA-3374-424F-9C1D-93FC51AF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56E-8564-4001-AC35-E11ED2E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283-3E0F-4452-942B-0CEEBA9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DF2-9AAA-4B86-B255-36888011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F7BCB-6BC0-4B73-969B-9DD1291F6D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