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29408"/>
        <c:axId val="50268049"/>
      </c:barChart>
      <c:catAx>
        <c:axId val="18429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68049"/>
        <c:crosses val="autoZero"/>
        <c:auto val="1"/>
        <c:lblAlgn val="ctr"/>
        <c:lblOffset val="100"/>
        <c:noMultiLvlLbl val="0"/>
      </c:catAx>
      <c:valAx>
        <c:axId val="50268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9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9F7-6174-45E6-B7C3-AFBC322B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FB6-695C-492E-B25B-5633B2CA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CA6-A21A-416D-B018-69D05884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08A-87DA-4E78-8466-AFB6A8F3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13E-4373-45A9-95BE-B73842C9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9F9-CDE6-49F5-874C-CB42CC41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3CA-B820-4190-B639-E8C101A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014-CED5-4F8A-A67B-77A9F82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0DD-4209-4851-A9CA-59963DD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9C4-5B67-4826-BE17-C13CEBB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F32-0DB2-4FB9-B095-F0421C26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F72-3BC3-44D8-A935-E76100A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58708-76FC-439A-A4DD-00DB57320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