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05863"/>
        <c:axId val="92057503"/>
      </c:barChart>
      <c:catAx>
        <c:axId val="17705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57503"/>
        <c:crosses val="autoZero"/>
        <c:auto val="1"/>
        <c:lblAlgn val="ctr"/>
        <c:lblOffset val="100"/>
        <c:noMultiLvlLbl val="0"/>
      </c:catAx>
      <c:valAx>
        <c:axId val="92057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05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8BA-A784-4F65-8157-90F791E9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A51-DA4A-4788-BD7A-03D1ABE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72E-0079-4138-A5F0-4F99D380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A32-44FF-4838-97FA-17ED3CC1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7BD-ECCF-4A79-8888-5957FEAF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EAE-47D9-40D1-A3FB-49788018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677-11ED-4285-BE5A-D5D57182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FAD-C340-46ED-9F36-4213F82A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F61-2C01-4F00-AB58-69E64E64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97D-E797-4DD9-82CE-DCCD683B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138-71DC-4DEE-8389-60C091F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41F-D2A4-4E75-8804-F5A8742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D50AF-9CE2-45C3-9B52-49A327B418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