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66787"/>
        <c:axId val="52147650"/>
      </c:barChart>
      <c:catAx>
        <c:axId val="82366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7650"/>
        <c:crosses val="autoZero"/>
        <c:auto val="1"/>
        <c:lblAlgn val="ctr"/>
        <c:lblOffset val="100"/>
        <c:noMultiLvlLbl val="0"/>
      </c:catAx>
      <c:valAx>
        <c:axId val="52147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6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4E9-C58C-4600-8A3D-B105EEF5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97E-587E-490E-908F-7E92558B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5D4-7850-4BE3-8616-E545776F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442-A2B2-41AD-8B2C-EB5A6C84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47D-93AB-4519-8535-D8D95FA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EAE-ACED-4146-9B33-A588BB7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392-9810-4CAE-89BE-91EF33CC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619-AE21-4250-BE73-61EB112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BDB-89F2-4087-A0C0-FD514DF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CA5-53D6-4018-A86D-50F8BB1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3D6-69B5-418A-9217-5093C36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57A-A32C-45F3-9F09-1A6D699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F3D49-449A-4143-8CA9-482C53C3A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