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0875141"/>
        <c:axId val="58221001"/>
      </c:barChart>
      <c:catAx>
        <c:axId val="9087514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221001"/>
        <c:crosses val="autoZero"/>
        <c:auto val="1"/>
        <c:lblAlgn val="ctr"/>
        <c:lblOffset val="100"/>
        <c:noMultiLvlLbl val="0"/>
      </c:catAx>
      <c:valAx>
        <c:axId val="5822100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87514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0941-3DC7-4BED-9133-F200C9357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270E-65E7-4AA5-A4DE-21B0B6949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D76C-5097-4346-A303-6AD16BDDC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305F-EC28-46E2-83E0-60C8F644B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DCA2-963B-4ABE-8B61-1158DCDB1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F788-5990-4E4B-A5EF-2F5FED495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3A05-F3B1-4DA2-B26A-32313E6FB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84AF-0AC9-4D1B-BACC-B80D3DBD7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ACBD-BA18-4460-8032-37D4CE31E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312B-900F-474A-9EC4-ECA3A9BB7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3913-68BE-490E-BDEC-CD7579648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8FF6-2A8F-4AB5-8B0A-AC49CDD48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48DC93-1FC4-4199-8B2B-285B0C58BFC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