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93058"/>
        <c:axId val="22253222"/>
      </c:barChart>
      <c:catAx>
        <c:axId val="20493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53222"/>
        <c:crosses val="autoZero"/>
        <c:auto val="1"/>
        <c:lblAlgn val="ctr"/>
        <c:lblOffset val="100"/>
        <c:noMultiLvlLbl val="0"/>
      </c:catAx>
      <c:valAx>
        <c:axId val="22253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93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C95-1010-4168-82FA-3D8782A4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2EA-4598-4240-8201-9F6E465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493-6B48-4521-AB1D-4B5726A4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5C1-89E5-460B-BC4A-CE05FCD8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0A9-273B-402C-A9FB-B4B02C91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6F5-3DFC-4B50-B653-5642594F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9C4-804B-4C42-AD3C-8F326B1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AA9-6534-432A-8B7C-0B62453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8D8-816B-44D5-84D0-D5B789DC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0A3-89FC-45FB-AE28-B68FAB9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B11-3889-486F-8ACC-D5BC0BD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9D6-252B-4AB4-94B5-BA449CA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F850A-3FC8-4845-8281-51057152D0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