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53258"/>
        <c:axId val="63244317"/>
      </c:barChart>
      <c:catAx>
        <c:axId val="173532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44317"/>
        <c:crosses val="autoZero"/>
        <c:auto val="1"/>
        <c:lblAlgn val="ctr"/>
        <c:lblOffset val="100"/>
        <c:noMultiLvlLbl val="0"/>
      </c:catAx>
      <c:valAx>
        <c:axId val="632443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532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C2AD-1FFB-48E7-851D-4641749D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737A-97AC-4123-ACE1-AE46E92B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D98A-0D7D-4EF5-839D-55B84EB5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BFFA-9EF3-435A-9A20-EE2D807F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EE2F-8D87-44BD-9D9F-B73AC7CB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9EC7-1B9A-4C28-A400-4DAB34F4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A0FE-1BC4-4228-AB51-C8A2393F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E35F-2019-4531-9F5A-8485F481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6C1-8F01-4892-A31E-FDB2AFEA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8AC8-A35C-4EA3-9089-6E94B9BA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E720-9323-4A64-8AA3-A37F790B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0AC5-11EC-45C3-941B-476DAF72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E135E-1CB5-42DF-A332-39C9D32514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