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736535"/>
        <c:axId val="78642533"/>
      </c:barChart>
      <c:catAx>
        <c:axId val="467365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642533"/>
        <c:crosses val="autoZero"/>
        <c:auto val="1"/>
        <c:lblAlgn val="ctr"/>
        <c:lblOffset val="100"/>
        <c:noMultiLvlLbl val="0"/>
      </c:catAx>
      <c:valAx>
        <c:axId val="786425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7365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326C-B3B0-4D51-9E1A-859E94A32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3230-642F-4029-A629-93F17CB14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87F6-E80B-4D9C-91F2-EDE12806C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06BA-1312-4C7E-A6A1-B926D59AF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B226-ECCF-4555-A30F-0430A0857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E26C-2169-4769-815C-3A4D50B44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350E-7497-489F-AFF8-FF02E22C2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18E3-822D-44AC-8F93-7D45A19BD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37A3-4173-4C34-B73D-4F9EAF797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8695-052C-40EC-8FB2-AD180ACD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2612-3A9C-4E31-A9E5-EF888E9B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A638-8F01-4F3D-8AE1-05BECCA8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C6D1E1-591F-4BBB-A6E9-F2BD7319A05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