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233"/>
        <c:axId val="59140502"/>
      </c:barChart>
      <c:catAx>
        <c:axId val="714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40502"/>
        <c:crosses val="autoZero"/>
        <c:auto val="1"/>
        <c:lblAlgn val="ctr"/>
        <c:lblOffset val="100"/>
        <c:noMultiLvlLbl val="0"/>
      </c:catAx>
      <c:valAx>
        <c:axId val="59140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5FD-2DF6-4455-AB5B-5253DE54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A87-1B66-4810-9678-06AB86CC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342-DF17-4C02-88C8-98CDF823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AA4-E628-453B-BADE-DF675D86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73A-C234-44D7-9A0D-AA25D05B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93C-AD85-4E37-AC05-3DCB69FB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E2A-D019-43D0-BF3A-D240070F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0B3-0FD6-42F4-949A-CAD3E894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897-8B7F-4AFD-BEA7-6BF5BFA9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C31-57BF-4DE1-9C60-74320CA4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6D9-59D6-45EE-9AC0-9AFD9D87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AA5-9A5C-4E04-ABFD-8F232142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79202-DF56-4892-B208-52253FDD8B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