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27922"/>
        <c:axId val="78208022"/>
      </c:barChart>
      <c:catAx>
        <c:axId val="66427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08022"/>
        <c:crosses val="autoZero"/>
        <c:auto val="1"/>
        <c:lblAlgn val="ctr"/>
        <c:lblOffset val="100"/>
        <c:noMultiLvlLbl val="0"/>
      </c:catAx>
      <c:valAx>
        <c:axId val="78208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27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AD2-FDC9-470D-8735-DFF86CC5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D8D-EB64-4B64-9732-C4B28D7F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50E-0700-498F-AEF9-3BCB7290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2F2-EB73-4EB8-BAC5-51911029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58F-8C0F-4873-BDB3-9B3778D6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AD4-CA04-4DC7-AD72-65FEF92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DA1-2C90-4CA9-9389-0BD859F3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018-CE85-4CB2-80F8-F6CA848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3BE-96F6-4609-8333-0D0F1A41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36B-9920-4564-8111-6D88FE6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911-99B8-4733-98FA-49A77D2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A6E-01C1-4E2A-B277-B382369F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0640F-C4EC-4C60-8406-D9512DAE0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