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90428"/>
        <c:axId val="16218470"/>
      </c:barChart>
      <c:catAx>
        <c:axId val="391904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18470"/>
        <c:crosses val="autoZero"/>
        <c:auto val="1"/>
        <c:lblAlgn val="ctr"/>
        <c:lblOffset val="100"/>
        <c:noMultiLvlLbl val="0"/>
      </c:catAx>
      <c:valAx>
        <c:axId val="162184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90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BE8-21C2-43B2-A8AE-0438E73A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9BD8-FC4F-456F-8F77-3B6E5D8A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D73-456C-4C88-9F2B-419C8074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F146-18EB-4832-9F35-837B7A42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1C2-3554-4600-9FF5-BA56FC67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C31-B274-4B36-B69B-419C19FD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3B5-8BA3-4A6E-A648-5D1D2604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6668-0CD7-4798-B7D7-FA3CA0BA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BA5-FD64-4A57-B3B3-26B4109D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DA21-369A-4024-A34B-FD6F090E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5F7C-71EE-4707-BEF6-381D963C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115-AFE2-4B01-97E7-0ADCCB05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C8D57-9BFB-4408-A214-EBFB9A54D0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