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85697"/>
        <c:axId val="2676572"/>
      </c:barChart>
      <c:catAx>
        <c:axId val="899856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6572"/>
        <c:crosses val="autoZero"/>
        <c:auto val="1"/>
        <c:lblAlgn val="ctr"/>
        <c:lblOffset val="100"/>
        <c:noMultiLvlLbl val="0"/>
      </c:catAx>
      <c:valAx>
        <c:axId val="26765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856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7F8-EA6A-4A77-BB55-CC8B3758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B15-07B9-4463-8550-B43A5B4F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B0E6-6BBC-478E-9942-AB68124D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FA4D-171E-49A9-BD06-6C9A3011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9014-EB5D-4247-8146-F8E4C126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976A-664E-44B5-B252-0191F5D8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783-999E-40FE-9686-04271576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16B0-6EEB-4777-AAF0-CB8756D6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9B3B-A378-4E0A-A8BD-58A94B6B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84C8-39CC-4DD6-9D28-F400BD32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343-9175-4D3E-A36C-D69E3F21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30AF-612A-4A8D-9C70-B25D971D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6A91B-742D-4C52-8745-9D0DA86863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