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10895"/>
        <c:axId val="16541447"/>
      </c:barChart>
      <c:catAx>
        <c:axId val="35810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41447"/>
        <c:crosses val="autoZero"/>
        <c:auto val="1"/>
        <c:lblAlgn val="ctr"/>
        <c:lblOffset val="100"/>
        <c:noMultiLvlLbl val="0"/>
      </c:catAx>
      <c:valAx>
        <c:axId val="16541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10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3571-C7FD-4506-9E5C-43EA0380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C056-AEB2-4206-87F4-48A76F86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ADE-53DD-4F06-8A7E-3CA54764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0FB6-E37D-41C4-A4BB-10B5202E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FAE1-74AA-44A9-A15D-79746B74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5ED-EF79-42E9-85AE-0B1B67A3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FFA-FAFC-4232-833C-7A8EF17D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B10F-3B11-41EB-90EA-6C5165C0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5D9-9E80-40AE-A8BF-72F2F873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8D17-CE31-47E0-B374-CDC3EB50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71C-0D70-4729-8D9F-8B7913B8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3BAB-A600-4FDE-A3E4-06E32458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480A9-B00F-4A8F-A740-FA48B905B7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