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5257"/>
        <c:axId val="52792477"/>
      </c:barChart>
      <c:catAx>
        <c:axId val="1615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92477"/>
        <c:crosses val="autoZero"/>
        <c:auto val="1"/>
        <c:lblAlgn val="ctr"/>
        <c:lblOffset val="100"/>
        <c:noMultiLvlLbl val="0"/>
      </c:catAx>
      <c:valAx>
        <c:axId val="52792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5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8EB-8C41-40FE-A2E6-9D208A85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339-B605-444E-BEB3-D32A7EF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1F8-A611-4CDA-9A90-48D1FB02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3A5-AF53-403B-BFF2-FAFC01CD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D32-5BAB-4BCB-913F-B721AC40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047-A670-4876-B95E-C947776D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35C-E789-40B3-B2CC-162AE8EB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EB1-F53D-46DC-B921-A6F7DF38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C8C-364E-48D9-A865-E5AC855F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BC1-B247-4A36-A02E-4314631F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C5F-1C3C-4B02-A9A5-92C1A802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89F-409E-47AC-A28E-F4D46CD8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941E8-6B20-495C-8A75-6507504623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