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12688"/>
        <c:axId val="76094099"/>
      </c:barChart>
      <c:catAx>
        <c:axId val="37912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94099"/>
        <c:crosses val="autoZero"/>
        <c:auto val="1"/>
        <c:lblAlgn val="ctr"/>
        <c:lblOffset val="100"/>
        <c:noMultiLvlLbl val="0"/>
      </c:catAx>
      <c:valAx>
        <c:axId val="76094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12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E42-9980-42BC-844E-F19BB4FD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248-A6C2-4FAB-AAD8-2F558F8C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B33-7E07-44A1-BA0A-BBBAC5B3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4A1-03EA-4DBB-B259-5320FAE7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FDC-C415-4280-94D0-FDE78FC9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62B-0926-49FE-802A-B4E8E64C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72D-8ED6-4A80-997A-DD9728F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026-505D-4BD1-8AB2-5E8DF496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D0D-8E9F-4DF7-B47B-5B3C2167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F56-AC07-4543-A16E-DA56B29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164-081A-4183-BA64-A81D8B62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674-D9A9-48C0-9169-6BEB7496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4C7EC-CE4C-4C86-BA60-23D9118FE2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