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16500"/>
        <c:axId val="4660869"/>
      </c:barChart>
      <c:catAx>
        <c:axId val="51316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0869"/>
        <c:crosses val="autoZero"/>
        <c:auto val="1"/>
        <c:lblAlgn val="ctr"/>
        <c:lblOffset val="100"/>
        <c:noMultiLvlLbl val="0"/>
      </c:catAx>
      <c:valAx>
        <c:axId val="4660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16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24C-D3FD-468E-98C3-70BB8B82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644-FFF5-4B45-997E-9BAE6ADC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007-4F3B-4C9B-89FF-38FF4E9F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331-75AC-4495-8A6D-363BB0CE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5A5-A1F3-45C4-95C6-07D763AB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123-4FF8-4BA9-9879-A566553B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20A-9B31-4689-986A-A98E45E5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5AD-AB28-4F8C-BF54-23567AF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272-C9C9-4160-91A5-A8E6EF4E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6E0-E837-4B00-B60C-4CCB625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F19-CCDA-48AB-842E-1239CC22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B7A-316F-4B98-A525-20585EEB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11A71-D583-40DB-ABDA-22DF2004C6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