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248043"/>
        <c:axId val="47379250"/>
      </c:barChart>
      <c:catAx>
        <c:axId val="772480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79250"/>
        <c:crosses val="autoZero"/>
        <c:auto val="1"/>
        <c:lblAlgn val="ctr"/>
        <c:lblOffset val="100"/>
        <c:noMultiLvlLbl val="0"/>
      </c:catAx>
      <c:valAx>
        <c:axId val="473792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480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0046-E43A-45D6-85EE-89BE9E9B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23B3-87AA-4AF1-9BFB-A1210966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67F4-4FFB-49A2-A774-506FC4A79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16F2-D656-4C3B-80CF-101015F4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ED18-C27A-48A0-8597-2F67746C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A2CF-3C0F-4C20-AD2B-76EB173A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DCC5-3D16-4E62-831F-E303BFC1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6A98-CA9F-4784-8CB7-24FBCC0D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C546-F819-4EB8-9BA0-00346D0F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A05F-9A4E-456E-B94B-1A7EB089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ECBA-EC9D-4E58-ABB2-589E8419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827F-FBC6-4710-BFAC-692AB8B0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6A0A2-944D-49C4-A274-F1C3FA60CE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