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637102"/>
        <c:axId val="26211934"/>
      </c:barChart>
      <c:catAx>
        <c:axId val="206371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11934"/>
        <c:crosses val="autoZero"/>
        <c:auto val="1"/>
        <c:lblAlgn val="ctr"/>
        <c:lblOffset val="100"/>
        <c:noMultiLvlLbl val="0"/>
      </c:catAx>
      <c:valAx>
        <c:axId val="262119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371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3198-C193-4B99-8FB8-A980D892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16E-7A26-4B7C-B90A-807B93E8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2CF-E797-4C06-AEAE-6D85BA99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84C-D549-4C57-90C9-D6E4597F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B42-256A-42CB-8E4D-965F9940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FA60-5D80-4815-8203-8891BEDD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A4C5-F3D0-4B9B-8799-C7453F6A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6488-0CFF-4539-954F-C81C2868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DD7-B396-47F1-B8B8-B96A9ABD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CAB-A2FA-433A-97A1-18938F6D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A389-BAC3-4ECE-82A5-B3A17415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8826-5EDD-4657-88D7-6E087D42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8B1A8-3292-4789-8316-2D328C7C2D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