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81547"/>
        <c:axId val="94792244"/>
      </c:barChart>
      <c:catAx>
        <c:axId val="31681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92244"/>
        <c:crosses val="autoZero"/>
        <c:auto val="1"/>
        <c:lblAlgn val="ctr"/>
        <c:lblOffset val="100"/>
        <c:noMultiLvlLbl val="0"/>
      </c:catAx>
      <c:valAx>
        <c:axId val="94792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81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66E-01CA-4FD9-893C-0364A6A8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CEF-4FBC-4FF2-9B89-40B238F8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2A2-5463-4B83-9D24-86BA2F8D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EAB-E803-4C1E-B55D-D1864BBC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C45-E6AF-4D35-B203-0D5BE618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DB8-0CAB-4596-9C4E-C58E4AE5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AEA-4704-4E4B-8EFD-DA798B20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4B8-D8CF-462F-B73B-62DE1F20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977-0CF0-4BC7-8BBA-06475750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911-2C12-4DCD-A089-B8255B54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CD4-3B79-4D24-A238-5077B9D3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94D-4E1B-42B0-BB93-06C8B095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0C366-8B25-403A-B498-A7344D419E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