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60704"/>
        <c:axId val="55855722"/>
      </c:barChart>
      <c:catAx>
        <c:axId val="621607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55722"/>
        <c:crosses val="autoZero"/>
        <c:auto val="1"/>
        <c:lblAlgn val="ctr"/>
        <c:lblOffset val="100"/>
        <c:noMultiLvlLbl val="0"/>
      </c:catAx>
      <c:valAx>
        <c:axId val="558557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607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7983-792D-42EE-A075-FBC42761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E51-18A4-4CD0-928E-55E93E7B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E3B-CC59-4F72-9824-1D6E2362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CF3D-0802-47B4-8979-3BBFF19A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B4A-8BD6-4C11-B846-19A4FF3D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B171-4AED-4F6F-B203-C755DE73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24D-FDBD-437A-ACD6-9E35FEC5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1311-96EB-445A-9BED-F44DD41E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816-BC9F-4EC9-90C6-2A6F923B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F1C9-9FEA-46A6-A63B-6245EA54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41C-30BB-40DE-A76D-BD11368F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B619-969F-4018-BDEB-CF877143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92BFB-CB72-4F69-B13D-4E952C19CC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