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348008"/>
        <c:axId val="14029935"/>
      </c:barChart>
      <c:catAx>
        <c:axId val="743480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029935"/>
        <c:crosses val="autoZero"/>
        <c:auto val="1"/>
        <c:lblAlgn val="ctr"/>
        <c:lblOffset val="100"/>
        <c:noMultiLvlLbl val="0"/>
      </c:catAx>
      <c:valAx>
        <c:axId val="140299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3480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8113-ED5E-48A6-B1EF-15EAC991B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81D5-060F-4A34-A584-0F00BC52F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EF14-5534-4F7A-A90E-9D888C5F3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0369-802F-4FCB-89FB-EC3485AA2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89ED-A816-4649-8B74-1DAE4BD20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A47C-63B1-46E7-8E7D-F31C99730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33E3-7DD4-4BE7-9F4D-98B38A054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1DD4-3F66-44D0-9414-1D73B1511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8D94-E729-4DC0-99B1-A5ECE0C1B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D282-2C38-4CA9-81B3-479B574E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A5F6-3F89-4479-A2F8-97DD23A8C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2815-807C-4ABB-A289-4B9E5CB0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FEC8D8-DF04-42EE-901D-33447375B69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