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9193"/>
        <c:axId val="37455919"/>
      </c:barChart>
      <c:catAx>
        <c:axId val="3579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55919"/>
        <c:crosses val="autoZero"/>
        <c:auto val="1"/>
        <c:lblAlgn val="ctr"/>
        <c:lblOffset val="100"/>
        <c:noMultiLvlLbl val="0"/>
      </c:catAx>
      <c:valAx>
        <c:axId val="37455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9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7BD-537B-4464-9608-AE5F44DD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1BB-43C0-4CBF-831E-B8858DD0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A55-EE01-43D4-939B-88BC2311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DAB-89A4-407C-8E76-F4DC4358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56D-CAC7-4D1D-9AFC-137C1CB1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ADE-A98C-4D35-A302-0179B6AB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306-AC0C-4966-8B6D-02B12E5C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8E7-D1F8-4927-9082-05E4E9C4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519-1DA8-40C8-8FA0-EC53838C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F74-E4FA-4A88-AE78-752603A8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B80-59A7-42DE-A6BA-D2E313A6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FDA-003C-4321-A730-F5EF8108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1EB92-3C70-46B9-AA62-00B5E6875F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