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353596"/>
        <c:axId val="33976125"/>
      </c:barChart>
      <c:catAx>
        <c:axId val="843535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976125"/>
        <c:crosses val="autoZero"/>
        <c:auto val="1"/>
        <c:lblAlgn val="ctr"/>
        <c:lblOffset val="100"/>
        <c:noMultiLvlLbl val="0"/>
      </c:catAx>
      <c:valAx>
        <c:axId val="339761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535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B208-BEE7-417B-8C52-FD7D574F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B05B-363E-40A3-B04C-2AE9623D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D25F-A464-49E0-866C-86DAEE0DF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1DB3-0516-4DB6-A733-97189BB7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80A6-A153-467F-93C4-EB14C9AC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7D75-24C0-47DB-BD27-0B1C4F46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6864-754D-42D2-A028-09E8BAD4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B022-9550-4D87-88EA-ABAAD532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661F-7B2D-477E-A890-BDCEFD24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D92C-9811-4A52-ADCB-393861F4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46C1-4058-4C0D-870C-659FD92A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B642-D7F5-4C83-B394-73DAD9AF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67830A-6C8A-4CEB-9DD2-82217489A0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