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37141"/>
        <c:axId val="60028694"/>
      </c:barChart>
      <c:catAx>
        <c:axId val="95637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28694"/>
        <c:crosses val="autoZero"/>
        <c:auto val="1"/>
        <c:lblAlgn val="ctr"/>
        <c:lblOffset val="100"/>
        <c:noMultiLvlLbl val="0"/>
      </c:catAx>
      <c:valAx>
        <c:axId val="60028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37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15E-05D1-422E-86B6-31AD82440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E6E-B27D-4BA3-99FD-105AFD8B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F71-649A-4D71-B4D3-20179CEC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602-CEFD-418E-9D38-1FF53084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004-BBA6-427D-8B4A-2D176C74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761-D324-4BD3-93C9-102C2589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0ED-C036-4CCF-AA51-9320216C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8EC-79F6-4A18-A674-E77DED7D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F65-3C38-4268-8710-FB583B93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7479-BC15-43B2-BE7B-C7D5F867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004-1437-4B4E-BD34-C4FDC947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7E5-230E-4649-8718-A7A240BE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54D12-18E8-455D-B7F9-B6E8E74930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