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28795"/>
        <c:axId val="52614356"/>
      </c:barChart>
      <c:catAx>
        <c:axId val="65228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14356"/>
        <c:crosses val="autoZero"/>
        <c:auto val="1"/>
        <c:lblAlgn val="ctr"/>
        <c:lblOffset val="100"/>
        <c:noMultiLvlLbl val="0"/>
      </c:catAx>
      <c:valAx>
        <c:axId val="52614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28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E2B-C05B-4FCE-A71D-2CD50C00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1D5-E212-4557-999B-36110188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93A-2A05-4DC1-A3A1-2E22ED79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BFD-D98F-493E-9ECD-37E89E90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F91-C06B-4B68-8E36-66225F7C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E8D-C2BA-4F5A-A109-8EB9DBD8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A55-2B31-4DA9-A082-FEE2B20E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72C-078E-41BA-8F75-709C15EE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7B5-21CB-43A8-BDD3-72352E61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6DC-E2AE-4538-8F8D-3CFD308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9B9-A311-466A-9B1B-83C2BE6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C9B-E84A-4931-AE31-9869B866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45F62-A02B-4EDE-B332-A883A1C7E8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