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948020"/>
        <c:axId val="4745724"/>
      </c:barChart>
      <c:catAx>
        <c:axId val="419480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5724"/>
        <c:crosses val="autoZero"/>
        <c:auto val="1"/>
        <c:lblAlgn val="ctr"/>
        <c:lblOffset val="100"/>
        <c:noMultiLvlLbl val="0"/>
      </c:catAx>
      <c:valAx>
        <c:axId val="47457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480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CBD7-AD45-4005-A1E9-42EB42CD7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6038-3CDA-4F37-B07B-7C26CFBD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7DA3-DB09-4B38-B3BA-C26D1DFA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0E99-EEEB-4A43-86EC-F45C25822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C299-4D97-4950-9D1F-5C862171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D96E-4040-4452-9C73-960C071C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0ED4-541A-41D6-89A5-AE98416E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26A4-8D2A-4AC7-8516-FEB3EB87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B8A3-FE36-4C87-8C7B-5498660B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532C-10A1-4EF9-92CF-1174D68D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9BF4-49F9-48E2-A2AB-7FD70699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5BF6-0307-4C07-AA2F-78B4509E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7862AA-5EC2-4AE1-BF2C-4E6326FA11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