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5280805"/>
        <c:axId val="13643565"/>
      </c:barChart>
      <c:catAx>
        <c:axId val="5528080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643565"/>
        <c:crosses val="autoZero"/>
        <c:auto val="1"/>
        <c:lblAlgn val="ctr"/>
        <c:lblOffset val="100"/>
        <c:noMultiLvlLbl val="0"/>
      </c:catAx>
      <c:valAx>
        <c:axId val="1364356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28080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1ACEE-9465-43A0-B821-2570729C2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D2572-67A6-4ED2-98F4-22893B40E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3D8FC-B716-4095-857A-983238518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FD099-CE6E-4EE9-B5D8-477026F28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CE230-1A40-4C1A-AEB1-8A98140D1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2D320-5BDE-4687-A02D-4270C2048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4E1B8-41CA-491A-8FFD-C0470D9D5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076C8-643E-45C6-8CC4-57E92CA67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E3603-897B-4C57-BBC9-F05E78BAD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AF7A0-2436-4CA6-B06A-01D116DCF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B358B-8327-4551-A6E3-F398D4F53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0F4A6-9FCB-423E-9A18-FD43BFC76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124527-1BE1-47A1-86C1-0EB65D14F05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