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1648"/>
        <c:axId val="42185416"/>
      </c:barChart>
      <c:catAx>
        <c:axId val="87351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85416"/>
        <c:crosses val="autoZero"/>
        <c:auto val="1"/>
        <c:lblAlgn val="ctr"/>
        <c:lblOffset val="100"/>
        <c:noMultiLvlLbl val="0"/>
      </c:catAx>
      <c:valAx>
        <c:axId val="42185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1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396-319B-4880-A13F-D511A1A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B91-1FA1-46FE-BE6F-009C9DBC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EE9-E425-47B1-B444-115CEE4A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244-07CA-4B09-AC49-4FB594C7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A9F-D4BA-44E4-9DEF-F9FDFBD6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731-2DAE-4539-8A02-A7A8347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B7E-CD93-4971-82E0-776C7978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B91-9000-4C1A-A845-03CB0BA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3A9-8EC2-417A-A3A4-396E604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FD4-8CD1-4836-9B52-8B8ED58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551-B364-4322-8A3F-89236C7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E77-D287-4EB6-A713-6C78C4C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52079-4655-461E-9A4A-334879D6E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