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883456"/>
        <c:axId val="55995087"/>
      </c:barChart>
      <c:catAx>
        <c:axId val="42883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95087"/>
        <c:crosses val="autoZero"/>
        <c:auto val="1"/>
        <c:lblAlgn val="ctr"/>
        <c:lblOffset val="100"/>
        <c:noMultiLvlLbl val="0"/>
      </c:catAx>
      <c:valAx>
        <c:axId val="559950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83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B437-2BEE-48FE-ADBA-E2E9AD90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075E-5D64-4556-BC68-7ADCDCBB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3E03-8234-4968-BCA2-ECC3FA80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41CC-A5DE-4349-B22C-80427E8D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5FBC-6DAA-43E5-91DF-00BDA864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A4CE-4C9E-40C5-9C62-65DCCD51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FC1C-11CF-4107-ABB7-83A04008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89D4-EA63-4F3C-960D-564AE4C5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9A36-8D8F-4140-BC3F-6C295474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0A26-CED0-43F8-8D4F-B3870A8A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5EE2-F4E7-4536-AA3F-F90FB898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04F7-8B0D-4B11-965C-0C3487C5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30A1C-7FE0-4016-AB73-780AD2EC39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