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00487"/>
        <c:axId val="61077888"/>
      </c:barChart>
      <c:catAx>
        <c:axId val="50500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77888"/>
        <c:crosses val="autoZero"/>
        <c:auto val="1"/>
        <c:lblAlgn val="ctr"/>
        <c:lblOffset val="100"/>
        <c:noMultiLvlLbl val="0"/>
      </c:catAx>
      <c:valAx>
        <c:axId val="61077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00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C5F-81C9-4880-9D06-D1AFD9D2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3DA-42D8-415B-9828-EA8CFDF0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5E5-3AD1-419F-8949-47BF44AA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28F-FF84-4205-A802-6BAB2D81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8F6-A73F-446C-818B-D968475B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1EC-1896-4667-A6E6-38428C9D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077-1083-4E43-9A77-C6C5E212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8E8-1A62-4F0B-9720-EBAEFC33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D6A-EEA6-41BA-855B-BA7C53EB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863-A4BB-4B11-ACFA-0EBDE38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8DF-9F25-48BB-A3E1-30004033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080-E249-45D5-9263-AC6AD404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D728B-0A74-4AB8-B291-57C62969FB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