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83803"/>
        <c:axId val="56780399"/>
      </c:barChart>
      <c:catAx>
        <c:axId val="83583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0399"/>
        <c:crosses val="autoZero"/>
        <c:auto val="1"/>
        <c:lblAlgn val="ctr"/>
        <c:lblOffset val="100"/>
        <c:noMultiLvlLbl val="0"/>
      </c:catAx>
      <c:valAx>
        <c:axId val="56780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3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000-EF67-4652-B073-5C51CF45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9AE-CC6E-4A07-8510-49D1AA56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E61-5F0E-40B1-942D-501B033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A19-C943-4D8A-83E3-FA6F254F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474-8EF6-4B71-8BFA-D0DA3D30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F4E-F753-4C39-915B-308900A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FC2-C1B1-43CE-8732-52FBBCF6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4EF-CD57-4141-A1CF-99ED68EC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C1B-DAEF-46FF-82DE-46F158B7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4D9-63D8-4827-B8E8-43C5010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762-5B5E-46B7-9034-FCE8C02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D6C-0663-4124-A6CF-B6F1271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5BF2-ACC4-406A-AB68-E5861841F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