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04435"/>
        <c:axId val="93186403"/>
      </c:barChart>
      <c:catAx>
        <c:axId val="36604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86403"/>
        <c:crosses val="autoZero"/>
        <c:auto val="1"/>
        <c:lblAlgn val="ctr"/>
        <c:lblOffset val="100"/>
        <c:noMultiLvlLbl val="0"/>
      </c:catAx>
      <c:valAx>
        <c:axId val="93186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04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A0F-7B5A-47D6-B543-72C04CE7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200-2F37-42C6-B4D2-E9EA4F41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13E-C92A-4246-BF93-49A778F9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104-BA71-49E5-B1AE-3F28BBFD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937-ED1A-4FC5-87B3-1FC70F58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81F-2CDE-43EA-AF20-C1708610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076-05A0-47EA-9DB6-172D71AE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1C0-A06C-40EA-8E2F-C4EC984D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9CF-B289-46DB-8935-BE83CBDB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7AF-FBA2-4DFB-BFDC-1EF27BDD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404-81C1-4CA6-AB78-BAB3141A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B3A-8821-4600-A68F-BA82A417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73834-1095-46D9-9911-BC7D1F3E11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